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5B87-8BC8-44A7-913B-52A32081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E1E4-02C8-4B58-AA2C-C24F147B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9DEA-4130-4F99-9AF8-B57C2F8A8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B2EF-AD4D-4C9A-87C8-AACC5329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11C4-7990-4363-A7AD-46439FEC8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764-AC5B-45C1-80B8-E645DB15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C55-AD35-45D9-81F9-E736C2B8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0D7-5C20-4FC8-B855-F7833EA9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278-5754-4151-BE0C-9A168FA9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E94-3BD3-4486-87F3-3F4FE69E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5A6-45B8-4373-B057-364EE48B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383-5AD0-4F37-84C3-94114D78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83A-930F-4671-AFCB-80FADAB8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A0E-7099-4771-8085-AC0993BC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094-3B84-4813-99E8-A18FE71F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B6B-1364-4CAE-97F7-FB76E683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BD2-B1FA-4018-AAFC-79769CA8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90F8-B09F-4F09-BF02-035420B48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332000" y="765000"/>
            <a:ext cx="748980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Allocation and/o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Review of Un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 L Noble BED. Diptch. DipEd. FNZEI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447920" y="304920"/>
            <a:ext cx="73371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Overview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t career structure  does the school hav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t career structure could the school have to support its strategic dir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will the units be used to create that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will existing unit allocations and career structures be development to achieve that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447920" y="304920"/>
            <a:ext cx="73371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will the transition process be organ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Questions to Facilitate Thinking and Discussion.  These are on page 5 of the document Unit Allocation Guidelines.  These need to be run off for all teachers to discu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447920" y="228600"/>
            <a:ext cx="7543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eveloping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Key guiding princi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riorities that have been determined for the allocation of both fixed term and permanent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roles and responsibilities that will have units attached and the transition of those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balance between permanent and fixed term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447920" y="228600"/>
            <a:ext cx="7543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rocess for appointing people to those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rocess to be followed when the fix term exp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changes will be dealt with, e.g., staff changes, reduced or increased unit al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332000" y="765000"/>
            <a:ext cx="74898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523880" y="1523880"/>
            <a:ext cx="7391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uld be useful for the Principal to present the following information to the Board/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ing on what units are and the purpose of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school policy on unit al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pplicable the increase of decrea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nd when consultation with teaching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133720" y="22860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rd Delegation to the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sultation with Teach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47920" y="175248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ded consultation process, include how this will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ool’s  current unit allocation poli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information about units and car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s that teachers need in or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vely participation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tion (Principals need to be q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here because many teachers do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need to increase the DP uni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3520" y="8377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for confirming the final dec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school’s unit allocation 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ncipals also need to make it quite cl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tion means consultation it does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agreement the principal might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he final sa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475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that has been outlined can be used whenever the unit policy needs reviewing particularly in the situation of a falling 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 that could cause a re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turn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ment/retention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ducational initi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o the school’s unit enti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93432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viewing the Polic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ZEI, MoE and NZSTA 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Alloc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found on the NZEI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presentation is going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er should read th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ave copies of the Principles of Consul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incipal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cknowledgements/Com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00200" y="765000"/>
            <a:ext cx="72216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allocation of units can be very stressful for princip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are three points of view around 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are not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are too 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 wish we didn’t hav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is hoped that this presentation might make it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 of Unit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 are a carry over from pay parity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ior Teacher positions were changed from a Senior Teacher’s salary to a unit payme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reated the opportunity to pay teachers one or more units to carry out specific tasks and or responsibilities.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6477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pay parity NZEI has tried to gain unit parity with the PPTA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latest increase of unit numbers parity with units with the PPTA has nearly been achieve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ust be realised that in negotiations and a directive from the membership that units were to be used firstly to develop a career structure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3880" y="0"/>
            <a:ext cx="7261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rstly there MUST be consultation with teaching sta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start this consultation is to use the guidelines developed jointly by NZEI, MoE and NZ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suggestion is that these be given to teachers in syndicates or small groups of teachers to have a discussion about how they think units should be used and allo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nits give the Principal an opportunity to rethink career paths for teachers and additional leadership roles within a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47560" y="533160"/>
            <a:ext cx="7373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Units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nd Career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dditional teaching and learning responsibilitie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ed on the needs of the schoo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veloping a career pathways, roles and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key element in the allocation process is a clear job description this should apply to both fix term and permanent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citing initiatives/opportunitie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mixture of fixed/permanent term units (important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23880" y="304560"/>
            <a:ext cx="7315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ermanen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rimary Teachers' Contract requires an minimum of % units 60 must be allocated as perma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units are the traditional senior and middle management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ermanent units cannot be taken away from teachers who hold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 a guide from limited research it has the following  break down has shown  46% Senior Management, 27% Middle Management, 27% Curriculum and recruitment and retention.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Joshcooking"/>
          <p:cNvPicPr/>
          <p:nvPr/>
        </p:nvPicPr>
        <p:blipFill>
          <a:blip r:embed="rId2"/>
          <a:stretch/>
        </p:blipFill>
        <p:spPr>
          <a:xfrm>
            <a:off x="0" y="914400"/>
            <a:ext cx="118728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47920" y="152280"/>
            <a:ext cx="737388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Key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units allocation supports a logical and transparent career structure within the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nits are allocated, and new roles created, on the basis of the different needs of the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nits are allocated to provide recognition and reward for leadership, teaching and learning, not simply work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447920" y="152280"/>
            <a:ext cx="737388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llocation of units is based on objective criteria, i.e. to be positions rather than to specific people holding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eaching staff are consulted about the development or review of  the unit allocation poli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requirements of the PTCA ar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eelHunt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oshcooking"/>
          <p:cNvPicPr/>
          <p:nvPr/>
        </p:nvPicPr>
        <p:blipFill>
          <a:blip r:embed="rId2"/>
          <a:stretch/>
        </p:blipFill>
        <p:spPr>
          <a:xfrm>
            <a:off x="0" y="907920"/>
            <a:ext cx="1187280" cy="136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Rivercooking"/>
          <p:cNvPicPr/>
          <p:nvPr/>
        </p:nvPicPr>
        <p:blipFill>
          <a:blip r:embed="rId3"/>
          <a:stretch/>
        </p:blipFill>
        <p:spPr>
          <a:xfrm>
            <a:off x="0" y="2276640"/>
            <a:ext cx="1187280" cy="122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Riverchallange2"/>
          <p:cNvPicPr/>
          <p:nvPr/>
        </p:nvPicPr>
        <p:blipFill>
          <a:blip r:embed="rId4"/>
          <a:stretch/>
        </p:blipFill>
        <p:spPr>
          <a:xfrm>
            <a:off x="0" y="3500280"/>
            <a:ext cx="1176480" cy="187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Slide22"/>
          <p:cNvPicPr/>
          <p:nvPr/>
        </p:nvPicPr>
        <p:blipFill>
          <a:blip r:embed="rId5"/>
          <a:srcRect l="54587" t="61606" r="23358" b="0"/>
          <a:stretch/>
        </p:blipFill>
        <p:spPr>
          <a:xfrm>
            <a:off x="0" y="534672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0:54:59Z</dcterms:created>
  <dc:creator>Bill Noble</dc:creator>
  <dc:description/>
  <dc:language>en-US</dc:language>
  <cp:lastModifiedBy>Pauline Scanlan</cp:lastModifiedBy>
  <dcterms:modified xsi:type="dcterms:W3CDTF">2010-04-25T04:03:38Z</dcterms:modified>
  <cp:revision>35</cp:revision>
  <dc:subject/>
  <dc:title>Slide 1</dc:title>
</cp:coreProperties>
</file>